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0044-513F-4BE7-AF78-407DA13C0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D029-35F7-4636-BF22-6C8B357A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6DA4-5D83-4A0C-9AFF-B567065A3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5934-1FFC-4D7A-83DF-80EC676CE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1FD7-3EF2-460C-B49A-5A6B5F16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A904-F556-4674-8E73-A0FE63A3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E048-8381-4550-B634-BE9B1FBC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B891-3218-4C36-A013-783B4716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DD01-FD10-4D05-A01A-8875981D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5449-153F-4EA6-A777-7C42D77C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3EBB-00CD-49AE-A218-B6C463F3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11C9-710D-47D5-AF47-302BBFC7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252000"/>
            <a:ext cx="3792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252000"/>
            <a:ext cx="51465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252000"/>
            <a:ext cx="3792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AC61-97F5-4662-887E-27824723C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7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4.wmf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wmf"/><Relationship Id="rId4" Type="http://schemas.openxmlformats.org/officeDocument/2006/relationships/image" Target="../media/image7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4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2025720" y="-249120"/>
            <a:ext cx="20594880" cy="10729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891720" y="3402000"/>
            <a:ext cx="4821120" cy="5910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0864800" y="3424320"/>
            <a:ext cx="1130400" cy="1198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7120080" y="5440320"/>
            <a:ext cx="32097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2025720" y="-249120"/>
            <a:ext cx="20594880" cy="1072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891720" y="3402000"/>
            <a:ext cx="4821120" cy="5910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0936440" y="3495600"/>
            <a:ext cx="1130040" cy="1198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 flipH="1">
            <a:off x="2655360" y="5584680"/>
            <a:ext cx="3743640" cy="3745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6327720" y="7024680"/>
            <a:ext cx="3024360" cy="2371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9207360" y="7816680"/>
            <a:ext cx="172908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8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88472E-006 4.36523E-006 C -0.00684 -0.0036 -0.00303 -0.00016 -0.00821 -0.01689 C -0.00909 -0.01939 -0.01133 -0.01939 -0.0129 -0.02064 C -0.02208 -0.03831 -0.0339 -0.0455 -0.04572 -0.05816 C -0.0509 -0.06379 -0.05276 -0.0688 -0.05862 -0.07317 C -0.06399 -0.07708 -0.07054 -0.07771 -0.0763 -0.0788 C -0.08128 -0.07818 -0.08656 -0.07927 -0.09144 -0.07693 C -0.09437 -0.07552 -0.09965 -0.06051 -0.10082 -0.05816 C -0.1018 -0.05613 -0.10336 -0.05472 -0.10434 -0.05253 C -0.10815 -0.04425 -0.10922 -0.03534 -0.11372 -0.02814 C -0.11636 -0.01548 -0.11372 -0.03112 -0.11372 -0.01126 C -0.11372 -0.00813 -0.11391 -0.01798 -0.11489 -0.02064 C -0.11704 -0.0258 -0.1231 -0.03377 -0.1231 -0.03377 C -0.12681 -0.05175 -0.14 -0.05597 -0.15016 -0.06004 C -0.1524 -0.05941 -0.15485 -0.05941 -0.15709 -0.05816 C -0.1609 -0.05613 -0.16462 -0.04659 -0.16647 -0.04315 C -0.17136 -0.0344 -0.17527 -0.02486 -0.17937 -0.01501 C -0.18083 -0.01157 -0.18142 -0.00719 -0.18289 -0.00375 C -0.18474 -0.01267 -0.18289 -0.0233 -0.18523 -0.0319 C -0.1864 -0.03596 -0.18992 -0.0369 -0.19226 -0.0394 C -0.1949 -0.04222 -0.20614 -0.04644 -0.20985 -0.04878 C -0.21845 -0.04644 -0.21815 -0.04659 -0.22274 -0.03565 C -0.22382 -0.02017 -0.22558 -0.00532 -0.22861 0.00938 C -0.22997 -0.00626 -0.23085 -0.00579 -0.23564 -0.01876 C -0.23867 -0.04315 -0.25381 -0.05691 -0.26729 -0.06567 C -0.27198 -0.06442 -0.27697 -0.06457 -0.28136 -0.06192 C -0.28527 -0.05957 -0.29006 -0.04206 -0.29201 -0.03753 C -0.29455 -0.02064 -0.29338 -0.02736 -0.29543 -0.01689 C -0.29582 -0.00688 -0.29475 0.00359 -0.2967 0.01313 C -0.29787 0.01907 -0.29719 0.00062 -0.29777 -0.00563 C -0.29807 -0.00813 -0.29856 -0.01063 -0.29895 -0.01314 C -0.30197 -0.02908 -0.30686 -0.043 -0.31311 -0.05629 C -0.31507 -0.06066 -0.31585 -0.06708 -0.31888 -0.06942 C -0.32112 -0.07114 -0.32357 -0.07067 -0.32601 -0.0713 C -0.34877 -0.06958 -0.35043 -0.07755 -0.35874 -0.05066 C -0.35971 -0.04769 -0.3603 -0.0444 -0.36108 -0.04128 C -0.36391 -0.01376 -0.36294 -0.02627 -0.3646 -0.00375 C -0.36899 -0.01423 -0.36538 -0.00407 -0.36811 -0.01876 C -0.37075 -0.03299 -0.37583 -0.05113 -0.38453 -0.05816 C -0.38629 -0.05957 -0.38843 -0.05926 -0.39039 -0.06004 C -0.39283 -0.06098 -0.39801 -0.06457 -0.39977 -0.06567 C -0.41667 -0.06176 -0.41872 -0.06473 -0.4279 -0.04503 C -0.43044 -0.03299 -0.43035 -0.02424 -0.43611 -0.01501 C -0.4365 -0.01314 -0.43699 -0.01126 -0.43728 -0.00938 C -0.43777 -0.00626 -0.43679 -0.00172 -0.43845 4.36523E-006 C -0.43963 0.00125 -0.44002 -0.00375 -0.4408 -0.00563 C -0.44187 -0.01251 -0.44217 -0.02001 -0.44432 -0.02627 C -0.44881 -0.03925 -0.45164 -0.04237 -0.45965 -0.04878 C -0.46727 -0.05488 -0.45877 -0.04988 -0.46659 -0.05816 C -0.46913 -0.06082 -0.47216 -0.0616 -0.47489 -0.06379 C -0.48457 -0.06223 -0.4875 -0.06426 -0.49355 -0.05441 C -0.49639 -0.04081 -0.49228 -0.05832 -0.49834 -0.04128 C -0.50244 -0.02924 -0.50479 -0.01532 -0.50645 -0.00188 C -0.50821 -0.01016 -0.51212 -0.01204 -0.51583 -0.01876 C -0.51817 -0.02299 -0.52101 -0.03018 -0.52403 -0.03377 C -0.53195 -0.04331 -0.54162 -0.05128 -0.551 -0.05629 C -0.55412 -0.05566 -0.55754 -0.05613 -0.56038 -0.05441 C -0.56428 -0.05222 -0.56653 -0.03909 -0.56751 -0.03565 C -0.56985 -0.02689 -0.57171 -0.01798 -0.57444 -0.00938 C -0.57484 -0.00375 -0.57308 0.00344 -0.57562 0.0075 C -0.57757 0.01063 -0.5762 -0.00141 -0.57679 -0.00563 C -0.57855 -0.01611 -0.57913 -0.01063 -0.58265 -0.01876 C -0.58529 -0.02471 -0.58969 -0.03753 -0.58969 -0.03753 C -0.5932 -0.06004 -0.60561 -0.07067 -0.61899 -0.07505 C -0.62329 -0.07411 -0.62847 -0.07567 -0.63189 -0.0713 C -0.64215 -0.05816 -0.64381 -0.04253 -0.64947 -0.02439 C -0.65084 -0.02001 -0.6528 -0.01845 -0.65299 -0.01314 C -0.65328 -0.00313 -0.65299 0.00688 -0.65299 0.01688 E">
                                      <p:cBhvr>
                                        <p:cTn id="122" dur="3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-2313000" y="-249120"/>
            <a:ext cx="20666160" cy="10658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151000" y="4071960"/>
            <a:ext cx="1346400" cy="1368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 flipH="1">
            <a:off x="5319360" y="4935600"/>
            <a:ext cx="3600360" cy="3744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8344080" y="6448320"/>
            <a:ext cx="3249360" cy="2371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16768800" y="6951600"/>
            <a:ext cx="18716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56819E-006 1.14447E-006 C -0.00078 -0.00563 -0.00068 -0.01188 -0.00234 -0.01688 C -0.00351 -0.02048 -0.00635 -0.02173 -0.0082 -0.02439 C -0.02247 -0.04471 -0.03282 -0.04315 -0.05041 -0.05253 C -0.09818 -0.04299 -0.06565 -0.05628 -0.08675 -0.03377 C -0.08939 -0.02095 -0.09232 -0.00828 -0.09613 0.00375 C -0.09789 0.0208 -0.09652 0.01142 -0.10082 0.0319 C -0.10209 0.03799 -0.10316 0.05066 -0.10316 0.05066 C -0.10678 0.03893 -0.11088 0.0319 -0.11723 0.02439 C -0.12075 0.02017 -0.12339 0.01267 -0.12778 0.01126 C -0.13843 0.00782 -0.14888 0.00235 -0.15943 -0.00187 C -0.16412 -0.00062 -0.16891 -0.00031 -0.1735 0.00188 C -0.17976 0.00485 -0.19119 0.0208 -0.19578 0.02814 C -0.20447 0.04206 -0.19451 0.03049 -0.20281 0.0394 C -0.20359 0.04128 -0.20457 0.043 -0.20516 0.04503 C -0.20613 0.04863 -0.2075 0.05629 -0.2075 0.05629 C -0.2116 0.02986 -0.22108 0.0222 -0.23446 0.00938 C -0.23779 0.00626 -0.2414 0.00375 -0.24501 0.00188 C -0.24804 0.00031 -0.25439 -0.00187 -0.25439 -0.00187 C -0.26416 -0.00125 -0.27393 -0.00156 -0.2837 1.14447E-006 C -0.28956 0.00094 -0.29562 0.01016 -0.30129 0.01313 C -0.30803 0.02126 -0.30422 0.01532 -0.30832 0.02439 C -0.31067 0.0294 -0.31535 0.0394 -0.31535 0.0394 C -0.31711 0.05879 -0.31535 0.04941 -0.32356 0.05816 C -0.32434 0.06004 -0.32483 0.06238 -0.32591 0.06379 C -0.32688 0.06504 -0.32835 0.06473 -0.32942 0.06567 C -0.32991 0.06614 -0.3302 0.06692 -0.3306 0.06754 E">
                                      <p:cBhvr>
                                        <p:cTn id="136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-2025720" y="-249120"/>
            <a:ext cx="20594880" cy="10729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891720" y="3402000"/>
            <a:ext cx="4821120" cy="5910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0648800" y="3857760"/>
            <a:ext cx="1130400" cy="1198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551720" y="5511960"/>
            <a:ext cx="3210120" cy="3744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4888080" y="6951600"/>
            <a:ext cx="3159000" cy="2371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-2241720" y="7527960"/>
            <a:ext cx="1729080" cy="1500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2655720" y="7959600"/>
            <a:ext cx="134640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07503E-006 -7.71107E-006 C -0.00078 -0.00376 -0.00156 -0.00751 -0.00234 -0.01126 C -0.00361 -0.0172 -0.00322 -0.02471 -0.00117 -0.03002 C 0.00782 -0.05363 0.02882 -0.04785 0.04221 -0.04879 C 0.0508 -0.04816 0.0595 -0.04894 0.068 -0.04691 C 0.07308 -0.04566 0.07562 -0.03706 0.07855 -0.0319 C 0.08802 -0.01548 0.09857 -0.00126 0.10317 0.02063 C 0.10356 0.01313 0.10375 0.00562 0.10434 -0.00188 C 0.10561 -0.01752 0.11469 -0.03002 0.11958 -0.04316 C 0.12134 -0.048 0.12241 -0.05348 0.12427 -0.05817 C 0.12827 -0.06817 0.13541 -0.08021 0.14185 -0.08631 C 0.14361 -0.08803 0.14586 -0.0885 0.14771 -0.09006 C 0.15231 -0.09413 0.15553 -0.09866 0.16061 -0.10132 C 0.17517 -0.09913 0.19002 -0.09288 0.20281 -0.08068 C 0.20721 -0.07646 0.21141 -0.07193 0.21571 -0.06755 C 0.21766 -0.06567 0.22157 -0.06192 0.22157 -0.06192 C 0.22274 -0.05942 0.22372 -0.0566 0.22509 -0.05441 C 0.22607 -0.05285 0.22782 -0.05254 0.22861 -0.05066 C 0.23066 -0.04613 0.2333 -0.03565 0.2333 -0.03565 C 0.23447 -0.02283 0.23662 -0.01079 0.23798 0.00187 C 0.23759 0.01125 0.23613 0.03939 0.23681 0.03001 C 0.23789 0.01563 0.23779 0.00109 0.23916 -0.01314 C 0.23935 -0.01533 0.24082 -0.01689 0.2415 -0.01877 C 0.2502 -0.04191 0.2585 -0.07146 0.27667 -0.0788 C 0.28214 -0.07755 0.28781 -0.07755 0.29308 -0.07505 C 0.29465 -0.07427 0.29523 -0.07099 0.2966 -0.06942 C 0.29846 -0.06723 0.3007 -0.06614 0.30246 -0.0638 C 0.30627 -0.05864 0.30999 -0.05332 0.31301 -0.04691 C 0.31419 -0.04441 0.31507 -0.04144 0.31653 -0.0394 C 0.32142 -0.03268 0.32835 -0.02893 0.33412 -0.0244 C 0.33959 -0.02002 0.3433 -0.01329 0.34818 -0.00751 C 0.3519 0.00437 0.35326 0.01547 0.35522 0.02814 C 0.35551 0.03001 0.3558 0.03205 0.35639 0.03377 C 0.35698 0.0358 0.35873 0.03939 0.35873 0.03939 E">
                                      <p:cBhvr>
                                        <p:cTn id="154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-2025720" y="-249120"/>
            <a:ext cx="20594880" cy="10729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891720" y="3402000"/>
            <a:ext cx="4821120" cy="5910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0648800" y="3857760"/>
            <a:ext cx="1130400" cy="1198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7551720" y="5511960"/>
            <a:ext cx="3210120" cy="3744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4888080" y="6951600"/>
            <a:ext cx="3159000" cy="2371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3807000" y="7888320"/>
            <a:ext cx="1728720" cy="1500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2583000" y="8104320"/>
            <a:ext cx="1346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4127E-007 -1.75109E-006 C 0.00049 -0.03002 -0.00381 -0.06223 0.00703 -0.08818 C 0.00947 -0.10772 0.01778 -0.13321 0.03048 -0.14071 C 0.0421 -0.14759 0.05236 -0.14962 0.06448 -0.15197 C 0.08001 -0.16682 0.09642 -0.18027 0.11254 -0.19325 C 0.11567 -0.19199 0.11928 -0.19262 0.12192 -0.18949 C 0.12553 -0.18527 0.13013 -0.17261 0.13013 -0.17261 C 0.13218 -0.1626 0.1355 -0.15166 0.14185 -0.14822 C 0.14722 -0.13962 0.14771 -0.14009 0.14771 -0.12758 E">
                                      <p:cBhvr>
                                        <p:cTn id="164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05119E-006 2.60163E-006 C -0.00987 -0.02377 -0.01192 -0.05348 -0.01642 -0.08068 C -0.02238 -0.17042 -0.02472 -0.17621 -0.0129 -0.30207 C -0.01143 -0.31786 -0.00528 -0.33162 1.05119E-006 -0.34522 C 0.01944 -0.39525 0.04298 -0.43309 0.07971 -0.43903 C 0.14673 -0.4334 0.10521 -0.44778 0.13833 -0.42214 C 0.14556 -0.41651 0.16061 -0.40713 0.16061 -0.40713 C 0.16725 -0.3965 0.17379 -0.39572 0.18171 -0.38837 C 0.18943 -0.38118 0.19753 -0.37477 0.20515 -0.36773 C 0.21121 -0.36211 0.22108 -0.34616 0.22977 -0.34522 C 0.24071 -0.34413 0.25166 -0.34397 0.2626 -0.34334 C 0.27178 -0.34147 0.28243 -0.34256 0.29073 -0.33584 E">
                                      <p:cBhvr>
                                        <p:cTn id="168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06679E-006 -1.40088E-006 C -0.01124 -0.06285 0.00625 -0.15244 0.02345 -0.20825 C 0.05539 -0.31175 0.1059 -0.41651 0.17116 -0.47092 C 0.20359 -0.49797 0.23818 -0.50766 0.27315 -0.5197 C 0.28449 -0.51845 0.29592 -0.51892 0.30715 -0.51595 C 0.32561 -0.51094 0.34066 -0.48671 0.35756 -0.47467 C 0.36362 -0.47045 0.37114 -0.47139 0.37749 -0.46904 C 0.39517 -0.46247 0.37632 -0.46748 0.3939 -0.46341 C 0.40064 -0.45903 0.40484 -0.45325 0.41032 -0.44653 C 0.41256 -0.44371 0.41735 -0.43902 0.41735 -0.43902 C 0.42116 -0.42886 0.42614 -0.42073 0.43025 -0.41088 C 0.43064 -0.40588 0.43142 -0.39587 0.43142 -0.39587 E">
                                      <p:cBhvr>
                                        <p:cTn id="172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9418E-007 -3.72108E-006 L -0.00449 0.40432 E">
                                      <p:cBhvr>
                                        <p:cTn id="176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-2025720" y="-249120"/>
            <a:ext cx="20594880" cy="10729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891720" y="3402000"/>
            <a:ext cx="4821120" cy="5910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0720440" y="8104320"/>
            <a:ext cx="1130400" cy="1198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983360" y="6415200"/>
            <a:ext cx="3210120" cy="3744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11584080" y="7788240"/>
            <a:ext cx="3166920" cy="2371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9783720" y="8659800"/>
            <a:ext cx="1728720" cy="1500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11441160" y="8791560"/>
            <a:ext cx="14396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2025720" y="-249120"/>
            <a:ext cx="20594880" cy="10729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9891720" y="3402000"/>
            <a:ext cx="4821120" cy="5910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 flipH="1">
            <a:off x="7264080" y="5584680"/>
            <a:ext cx="3384360" cy="3745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4599000" y="6880320"/>
            <a:ext cx="3166920" cy="2371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511360" y="7601040"/>
            <a:ext cx="1656000" cy="1500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279360" y="7816680"/>
            <a:ext cx="144000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9.89944E-007 4.04751E-007 C 0.00127 -0.00297 0.00361 -0.00765 0.00361 -0.01172 C 0.00361 -0.02906 0.00234 -0.05579 -0.00976 -0.06266 C -0.02226 -0.0822 -0.0412 -0.08267 -0.0575 -0.0861 C -0.06317 -0.08735 -0.07459 -0.09001 -0.07459 -0.09001 C -0.08191 -0.08939 -0.08933 -0.09032 -0.09655 -0.08814 C -0.09948 -0.0872 -0.10485 -0.07173 -0.10641 -0.06845 C -0.10778 -0.05922 -0.10934 -0.05 -0.1113 -0.0411 C -0.11169 -0.03516 -0.10895 -0.02531 -0.11247 -0.02344 C -0.11569 -0.02172 -0.11383 -0.03406 -0.11491 -0.03922 C -0.11549 -0.04203 -0.11618 -0.04485 -0.11735 -0.04704 C -0.12399 -0.05907 -0.13687 -0.07251 -0.14673 -0.07626 C -0.16099 -0.08814 -0.17602 -0.09079 -0.19194 -0.09392 C -0.19779 -0.09173 -0.19994 -0.08907 -0.20414 -0.0822 C -0.2059 -0.07407 -0.20775 -0.06469 -0.21156 -0.05876 C -0.21254 -0.0475 -0.214 -0.03672 -0.21517 -0.02547 C -0.21859 -0.04094 -0.2138 -0.02094 -0.21888 -0.03719 C -0.22288 -0.05016 -0.22523 -0.06204 -0.2347 -0.06657 C -0.23704 -0.06766 -0.23958 -0.06782 -0.24212 -0.06845 C -0.25247 -0.07516 -0.27511 -0.07626 -0.27511 -0.07626 C -0.31495 -0.07329 -0.29015 -0.07829 -0.30811 -0.06845 C -0.31583 -0.05938 -0.31378 -0.06063 -0.31661 -0.04704 C -0.31758 -0.04235 -0.31934 -0.03797 -0.32032 -0.03328 C -0.32217 -0.01469 -0.32276 0.00266 -0.32276 0.02157 E">
                                      <p:cBhvr>
                                        <p:cTn id="186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2" presetSubtype="8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8" dur="2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2" presetSubtype="8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2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2025720" y="-249120"/>
            <a:ext cx="20594880" cy="10729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891720" y="3402000"/>
            <a:ext cx="4821120" cy="5910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0936440" y="3424320"/>
            <a:ext cx="1130040" cy="1198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 flipH="1">
            <a:off x="6399000" y="5511960"/>
            <a:ext cx="36003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2313000" y="-249120"/>
            <a:ext cx="20666160" cy="10658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216080" y="4503600"/>
            <a:ext cx="3159000" cy="2372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 flipH="1">
            <a:off x="5319360" y="4935600"/>
            <a:ext cx="36003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2313000" y="-249120"/>
            <a:ext cx="20666160" cy="10658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72080" y="6232680"/>
            <a:ext cx="3159000" cy="2371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983360" y="5079960"/>
            <a:ext cx="36720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2025720" y="-249120"/>
            <a:ext cx="20594880" cy="10729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9891720" y="3402000"/>
            <a:ext cx="4821120" cy="5910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0791720" y="3495600"/>
            <a:ext cx="1130400" cy="1198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7120080" y="5440320"/>
            <a:ext cx="3209760" cy="3745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4527720" y="7024680"/>
            <a:ext cx="31590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19734E-006 -8.63039E-007 C -0.00136 -0.053 -0.0124 -0.08787 0.0129 -0.1182 C 0.01407 -0.12195 0.01476 -0.12633 0.01642 -0.12945 C 0.0172 -0.13102 0.01896 -0.13008 0.01993 -0.13133 C 0.02101 -0.13274 0.0212 -0.13555 0.02228 -0.13696 C 0.02443 -0.13993 0.02707 -0.14165 0.02931 -0.14446 C 0.04016 -0.15838 0.04836 -0.16823 0.06214 -0.17261 C 0.06487 -0.17198 0.0679 -0.17276 0.07035 -0.17073 C 0.07591 -0.16635 0.08002 -0.15822 0.08559 -0.15384 C 0.09018 -0.14415 0.09819 -0.12789 0.10552 -0.12195 C 0.11822 -0.11179 0.10806 -0.12367 0.11607 -0.11445 C 0.11763 -0.11257 0.11939 -0.11101 0.12076 -0.10882 C 0.12173 -0.10725 0.12203 -0.1046 0.1231 -0.10319 C 0.12525 -0.10022 0.13013 -0.09568 0.13013 -0.09568 C 0.12759 -0.10178 0.12916 -0.10131 0.12662 -0.10131 E">
                                      <p:cBhvr>
                                        <p:cTn id="56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2025720" y="-249120"/>
            <a:ext cx="20594880" cy="10729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9891720" y="3402000"/>
            <a:ext cx="4821120" cy="5910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0791720" y="3495600"/>
            <a:ext cx="1130400" cy="1198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 flipH="1">
            <a:off x="3519360" y="5511960"/>
            <a:ext cx="3456000" cy="3744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6688080" y="6951600"/>
            <a:ext cx="338472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2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" dur="3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2313000" y="-249120"/>
            <a:ext cx="20666160" cy="10658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511360" y="4287960"/>
            <a:ext cx="1728720" cy="1500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 flipH="1">
            <a:off x="5319360" y="4935600"/>
            <a:ext cx="3600360" cy="3744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8775720" y="6232680"/>
            <a:ext cx="324972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2025720" y="-249120"/>
            <a:ext cx="20594880" cy="10729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9891720" y="3402000"/>
            <a:ext cx="4821120" cy="5910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0936440" y="3495600"/>
            <a:ext cx="1130040" cy="1198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7912080" y="5584680"/>
            <a:ext cx="3210120" cy="3745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4888080" y="6951600"/>
            <a:ext cx="3159000" cy="2371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-1728720" y="7743960"/>
            <a:ext cx="17287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635E-006 2.68918E-007 C 0.00518 -0.02095 -0.00107 -0.00266 0.00586 -0.01126 C 0.0085 -0.01454 0.01055 -0.01876 0.0129 -0.02251 C 0.01436 -0.02486 0.0169 -0.02517 0.01876 -0.02627 C 0.02931 -0.03236 0.02667 -0.03111 0.03517 -0.03377 C 0.03752 -0.03252 0.04015 -0.03221 0.04221 -0.03002 C 0.04543 -0.02642 0.05041 -0.01689 0.05041 -0.01689 C 0.05198 -0.00469 0.05315 0.00391 0.05393 0.01689 C 0.05911 0.0086 0.06038 -0.00281 0.06565 -0.01126 C 0.07278 -0.02267 0.07933 -0.02877 0.0891 -0.03189 C 0.09535 -0.03127 0.1017 -0.03205 0.10786 -0.03002 C 0.10952 -0.02955 0.1103 -0.02642 0.11137 -0.02439 C 0.11606 -0.01563 0.11772 -0.00532 0.12192 0.00375 C 0.12271 0.00766 0.12417 0.01704 0.12661 0.01313 C 0.12915 0.00907 0.12749 0.00156 0.12896 -0.00375 C 0.13599 -0.02861 0.14185 -0.04753 0.16061 -0.05253 C 0.16765 -0.05191 0.17478 -0.05269 0.18171 -0.05066 C 0.18533 -0.04956 0.19324 -0.03299 0.19578 -0.02814 C 0.19666 -0.02642 0.19754 -0.02455 0.19813 -0.02251 C 0.19871 -0.02079 0.19852 -0.01845 0.1993 -0.01689 C 0.20174 -0.01204 0.2075 -0.00375 0.2075 -0.00375 C 0.2079 -0.00188 0.2075 0.00266 0.20868 0.00188 C 0.21766 -0.00422 0.21845 -0.02423 0.22509 -0.03377 C 0.22802 -0.03799 0.23447 -0.04503 0.23447 -0.04503 C 0.25547 -0.04284 0.24756 -0.04581 0.26026 -0.03565 C 0.26417 -0.01673 0.27706 -0.01704 0.28605 -0.0075 C 0.2881 -0.0025 0.28908 0.00219 0.29074 0.0075 E">
                                      <p:cBhvr>
                                        <p:cTn id="98" dur="3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2025720" y="-249120"/>
            <a:ext cx="20594880" cy="10729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9891720" y="3402000"/>
            <a:ext cx="4821120" cy="5910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0936440" y="3495600"/>
            <a:ext cx="1130040" cy="1198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7912080" y="5584680"/>
            <a:ext cx="3210120" cy="3745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4888080" y="6951600"/>
            <a:ext cx="3159000" cy="2371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3807000" y="7888320"/>
            <a:ext cx="17287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49824E-006 -8.88055E-007 C 0.00156 -0.05191 0.00214 -0.10397 0.00468 -0.15572 C 0.00556 -0.17261 0.02119 -0.18809 0.02813 -0.197 C 0.03096 -0.20059 0.0337 -0.20435 0.03633 -0.20826 C 0.03878 -0.21185 0.04083 -0.21623 0.04337 -0.21951 C 0.05226 -0.23108 0.06545 -0.2353 0.07619 -0.24015 C 0.09153 -0.23671 0.09222 -0.23874 0.10316 -0.22702 C 0.10423 -0.22592 0.11566 -0.2228 0.1184 -0.22139 C 0.12162 -0.21451 0.12426 -0.20701 0.12778 -0.20075 C 0.13032 -0.19622 0.13383 -0.19278 0.13598 -0.18762 C 0.14087 -0.17589 0.14556 -0.16401 0.15005 -0.15197 C 0.15152 -0.14806 0.1524 -0.14322 0.15474 -0.14071 C 0.15591 -0.13946 0.15738 -0.13884 0.15826 -0.13696 C 0.15875 -0.13602 0.15826 -0.13446 0.15826 -0.13321 E">
                                      <p:cBhvr>
                                        <p:cTn id="104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61821E-006 -6.1601E-006 C -0.00352 -0.00861 -0.00342 -0.01814 -0.00469 -0.02815 C -0.00391 -0.04754 -0.0041 -0.06708 -0.00235 -0.08631 C -0.00108 -0.09976 0.00996 -0.12446 0.0129 -0.13321 C 0.03107 -0.18684 0.04396 -0.24156 0.07972 -0.27017 C 0.08587 -0.28987 0.08812 -0.2905 0.09848 -0.30395 C 0.10404 -0.31114 0.10844 -0.3213 0.11489 -0.32646 C 0.14058 -0.3471 0.16706 -0.36867 0.19578 -0.37524 C 0.2075 -0.38149 0.21923 -0.38775 0.23095 -0.394 C 0.23916 -0.39275 0.24746 -0.39291 0.25557 -0.39025 C 0.25752 -0.38962 0.25869 -0.3865 0.26026 -0.38462 C 0.26495 -0.37931 0.26895 -0.37493 0.27433 -0.37149 C 0.2755 -0.37274 0.27647 -0.37508 0.27784 -0.37524 C 0.2837 -0.37618 0.29211 -0.37071 0.29777 -0.36774 C 0.30373 -0.3582 0.30051 -0.36445 0.30598 -0.3471 C 0.30725 -0.34303 0.31545 -0.33678 0.31887 -0.33396 E">
                                      <p:cBhvr>
                                        <p:cTn id="108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7T17:37:18Z</dcterms:created>
  <dc:creator>Wendy Adeniji</dc:creator>
  <dc:description/>
  <dc:language>en-US</dc:language>
  <cp:lastModifiedBy>Wendy Adeniji</cp:lastModifiedBy>
  <dcterms:modified xsi:type="dcterms:W3CDTF">2008-02-13T13:52:08Z</dcterms:modified>
  <cp:revision>11</cp:revision>
  <dc:subject/>
  <dc:title>Slide 1</dc:title>
</cp:coreProperties>
</file>